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34C-72DA-4BFA-8373-32D44DC7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12C-9007-4AF4-BC00-1B6846E8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5CE-E1C8-4518-A8D6-8C03C8F5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B13-E4A2-404E-878E-8C56801E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8BAD6-82FB-435E-AAC1-9755080F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031C9-CEEA-4FF9-929B-90202BDA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9B987-7261-46D4-A896-EA7C9498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1D4EB-D487-4A62-A0E7-1610DDD9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902A1-1FF8-433B-9682-985A664C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EA0C7-E184-404A-89B6-314D7A78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106AB-A4B7-4AEF-A4FA-4E7BBCDD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8579-3063-46DB-BBDE-BEEED5D8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A737D-8261-4707-B898-C2812BCD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25790-DEAD-475A-A07B-A8A909E7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B8C04-5FF0-4977-8C97-106AB4D7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C6D7A-EE1A-483C-B6CB-62265828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CA9FD-34DD-429F-BA45-5A574CAD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B6D6-A1BB-4E1A-A9A7-98BD472A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BC87-1853-4BFC-B93D-EB546236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F7E-6DCF-470F-A1EE-72449B32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7F4-89C3-4B72-BD62-13AE4820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32E-DDA7-4530-A309-991FDD9D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B70-2718-4B38-BAA3-8B634D30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243-3A8B-4E86-A192-63C5079E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2DE3-0786-4A3B-A013-40A57599A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14E6-9515-40FE-9922-1E8789B276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library.ru/" TargetMode="External"/><Relationship Id="rId3" Type="http://schemas.openxmlformats.org/officeDocument/2006/relationships/hyperlink" Target="http://www.kostyor.ru/" TargetMode="External"/><Relationship Id="rId4" Type="http://schemas.openxmlformats.org/officeDocument/2006/relationships/hyperlink" Target="http://www.maly.ru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Луч света в темном царстве. Права ли была Катерина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: Сокотун Мария Валентиновна, студентк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курса, фил.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Основополагающий вопрос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ывают ли безвыходные ситуа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Проблемный вопрос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привело Катерину к самоубийству (каковы причины этого поступка)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ыл ли выход из этой ситуации у героин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автор показывает эту пробл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Дидактические цели проек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твратить суицидальные настроения среди учащихся 10х клас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пытка найти решение из безвыходной ситу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Представление результатов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 исследован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и докла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чинение, э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укле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эб-сай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Продолжительность проек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Время выполнения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две нед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Количество часов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Количество уроков: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Этапы проведения проек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бор, формулировка т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иск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мостоятельная работа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щита прое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Информационные ресурс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филактика суицидального поведения у детей и подростков. Методические рекомендации. Сыктывкар, 2002. Составитель Рожицина А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айт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"/>
              </a:rPr>
              <a:t>http://ilibrary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kostyor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http://www.maly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12T08:54:1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